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409185"/>
        <c:axId val="21942289"/>
      </c:barChart>
      <c:catAx>
        <c:axId val="414091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42289"/>
        <c:crosses val="autoZero"/>
        <c:auto val="1"/>
        <c:lblAlgn val="ctr"/>
        <c:lblOffset val="100"/>
        <c:noMultiLvlLbl val="0"/>
      </c:catAx>
      <c:valAx>
        <c:axId val="219422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091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3C8-6A5C-45C7-AFCE-16FAC710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1B6-7734-4C96-A84A-070DA2BC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ED59-4592-4837-8B70-E12F554F0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DC19-FE9F-40BA-90E3-A842EB9C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75A-9709-4F74-9B02-3E81B74EC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3811-7215-4230-9761-7D1840B0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CD9-FAB3-485B-80A8-4C0A8C84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66D0-9473-41BC-82D5-901C95B3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CA59-729E-4822-B832-F69CEB3D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61B0-DCFC-4C98-9405-53549E678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B7B2-D6F1-4CD8-9829-A7BFEF8C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E91F-DFE5-44F0-8DA8-4D1E4F60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5A471-5B0C-41FE-A8C7-8C860A119C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