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6813"/>
        <c:axId val="45570616"/>
      </c:barChart>
      <c:catAx>
        <c:axId val="97096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70616"/>
        <c:crosses val="autoZero"/>
        <c:auto val="1"/>
        <c:lblAlgn val="ctr"/>
        <c:lblOffset val="100"/>
        <c:noMultiLvlLbl val="0"/>
      </c:catAx>
      <c:valAx>
        <c:axId val="45570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6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442-22DC-4218-B44E-A99244E8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3D3-AAEF-4D77-8DA0-80497A4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E75-5507-4B2D-BC56-3C76F8FE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79E-021E-498F-882D-D119D841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A93-2DD5-4387-99E7-7728D7B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38C-F304-44AA-9D0B-479204A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CAB-D96A-402D-9D6F-9D07F3BF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DF5-ECBE-4BCE-BADC-7B0A0EB9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8AA-9D7B-4DD8-A872-779129B5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F54-2C0F-44BA-B1FA-68F4304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944-A569-4E6E-8820-6D10C37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06D-AB1B-412F-A526-23D0AB9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A2DF2-FFF0-4B08-9DEC-43CCBAB525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