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80205"/>
        <c:axId val="62719937"/>
      </c:barChart>
      <c:catAx>
        <c:axId val="61080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19937"/>
        <c:crosses val="autoZero"/>
        <c:auto val="1"/>
        <c:lblAlgn val="ctr"/>
        <c:lblOffset val="100"/>
        <c:noMultiLvlLbl val="0"/>
      </c:catAx>
      <c:valAx>
        <c:axId val="62719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80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473-D9B2-4025-A8F3-AADB209A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DEF5-B36D-4F09-9704-90E00FAE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A96-20E6-4870-BD5F-63CA6E00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84B-4927-4DCB-B938-F6683BD3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B85-7930-458A-BCDB-E6192293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503-B893-4EE3-8ED0-E286BAA3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ACF-CD59-42CE-84FB-7D595EA6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7B9-5B6A-4AA9-960C-B464D820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628-58D3-4602-80C6-F74B62EC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3F52-F610-48D8-BE7B-45E5EDE9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520-72E2-4D84-A3D1-D2559328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00B-D735-4513-9433-BB03DF9D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23875-50EC-49C3-913E-3058765B0B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