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41113"/>
        <c:axId val="3797270"/>
      </c:barChart>
      <c:catAx>
        <c:axId val="20341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7270"/>
        <c:crosses val="autoZero"/>
        <c:auto val="1"/>
        <c:lblAlgn val="ctr"/>
        <c:lblOffset val="100"/>
        <c:noMultiLvlLbl val="0"/>
      </c:catAx>
      <c:valAx>
        <c:axId val="3797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41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3F1-A071-4393-AA2E-4F91B0F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29A-582B-4919-923D-0D7790C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999-36FC-427C-88C0-8F970B48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C0-FDAD-41AD-A30B-A216689B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498-71C6-42EF-ADFF-A677C43D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999-7DE5-4498-98F1-8541F5B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CB7-2445-4A8B-83C4-56374D0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34D-38A4-4AC6-92AA-283DB67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C2-F7EF-4D1C-AA48-5DA721F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ABB-02FE-4CCB-92A5-35D0E3D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504-19BD-4324-BFBE-3DA6898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B65-0561-4BA7-8A2C-DC00E9D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E6DF9-414F-4299-9897-1E1ABE0C4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