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02442"/>
        <c:axId val="57137110"/>
      </c:barChart>
      <c:catAx>
        <c:axId val="93802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37110"/>
        <c:crosses val="autoZero"/>
        <c:auto val="1"/>
        <c:lblAlgn val="ctr"/>
        <c:lblOffset val="100"/>
        <c:noMultiLvlLbl val="0"/>
      </c:catAx>
      <c:valAx>
        <c:axId val="57137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02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76F-34D0-4BC2-A6A3-CD9A25A7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619-5261-465F-8591-D602158E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26D-135E-4790-AAA1-9BD8C1A3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4E3-263A-4EFC-8F12-A0330CF4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249-15DC-411F-8074-29EE77AD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0B8-9D5F-40FB-ADF4-F05DB5D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3A5-F88E-4988-B464-5312C6FF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A00-6D92-456C-AEBF-52209A8C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3AA-3D21-4F02-AB1A-D6134BF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7BB-AA10-4585-B2E7-A8BD556B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3F4-D4E0-4CF6-9DAD-41951EC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94D-6013-4B1D-82E0-27A3AFE6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9EE52-ECF8-43F1-996D-27927A83B9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