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83257"/>
        <c:axId val="11141280"/>
      </c:barChart>
      <c:catAx>
        <c:axId val="62283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41280"/>
        <c:crosses val="autoZero"/>
        <c:auto val="1"/>
        <c:lblAlgn val="ctr"/>
        <c:lblOffset val="100"/>
        <c:noMultiLvlLbl val="0"/>
      </c:catAx>
      <c:valAx>
        <c:axId val="11141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3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304-3A8E-456B-B84B-B9F197B2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539-B220-4EF5-8336-3D241F9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15C-0822-4BE6-80CC-CA314D3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823-71A0-4E17-9486-F5E01738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3EE-46CB-4F67-8FDD-C759E638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BF9-A58A-41B5-A215-90E9A6CE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4A-880A-4BA7-BB6A-A34ECA1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A4F-4566-4DD1-886E-3E2BF315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EEC-828F-47E9-83F0-542AAD8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194-6E55-4449-9D78-FF55E63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EE3-8154-46AA-90A3-888A9D5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FA4-B280-4572-8C6E-DDCFC89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0197-995C-4DA5-A3AA-70AE4891D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