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37141"/>
        <c:axId val="65415129"/>
      </c:barChart>
      <c:catAx>
        <c:axId val="63371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415129"/>
        <c:crosses val="autoZero"/>
        <c:auto val="1"/>
        <c:lblAlgn val="ctr"/>
        <c:lblOffset val="100"/>
        <c:noMultiLvlLbl val="0"/>
      </c:catAx>
      <c:valAx>
        <c:axId val="654151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371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87E7-43E8-4D5C-9758-09EDF902A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F9EF-63AF-4530-8DA2-944427333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A85D-E0C1-446E-A789-340184171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D74C-C5B6-4C78-9D2E-21F08A5F5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8749-EAA4-4EAD-A0CD-F4998ABA7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2FFF-C9EC-4E59-8C53-9BEFFE9EF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DDFE-A20C-457F-A993-1DD9829BF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BBD0-6C77-4059-8F93-2AFD95C44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3666-3E48-4CDB-889F-314FC6E09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64E0-5EAC-4B9A-8953-F6AD3B47D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2ABC-7950-4A16-BC5C-324C98D6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A30D-7DB1-4F2C-B250-34B17A5EA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DCC29B-D513-4F8B-86B9-075B5F8EFEA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