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0691"/>
        <c:axId val="44378941"/>
      </c:barChart>
      <c:catAx>
        <c:axId val="9710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78941"/>
        <c:crosses val="autoZero"/>
        <c:auto val="1"/>
        <c:lblAlgn val="ctr"/>
        <c:lblOffset val="100"/>
        <c:noMultiLvlLbl val="0"/>
      </c:catAx>
      <c:valAx>
        <c:axId val="44378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0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4DA-D0AC-4C34-A942-A7457ED3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C56-165A-47E8-9E9B-BAE86BC3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98A-8AAE-4FC2-B9E0-AD542124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245-4173-4F6C-9F7D-DEA2D283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424-1253-47D8-A0E7-570976D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9CA-D79B-49F1-B8FD-A735D0A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FF5-F37F-4F4E-83C0-DD8B405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942-148C-46F2-B740-8BB57CE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185-81B0-44DC-8846-A5200E4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D97-C977-45D3-8D38-B97A391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4CF-6A13-485F-8DB3-B3E0D48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2C8-269F-4E68-B819-78E8551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E356A-96CC-4F4A-9D7E-F7F3F148B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