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2723"/>
        <c:axId val="68951287"/>
      </c:barChart>
      <c:catAx>
        <c:axId val="3192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51287"/>
        <c:crosses val="autoZero"/>
        <c:auto val="1"/>
        <c:lblAlgn val="ctr"/>
        <c:lblOffset val="100"/>
        <c:noMultiLvlLbl val="0"/>
      </c:catAx>
      <c:valAx>
        <c:axId val="68951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2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222-BDD3-4104-98E1-6F3019D6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05C-E458-417D-8972-DD1D7A2A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BD2-A87B-419A-8320-3C3AEFC1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F37-46AE-4F5E-BA59-42EF65E5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BDD-5A82-4A09-8AEC-7CCD1578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4B8-45AE-4663-8AC8-5BF7E455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278-6077-4914-942A-4CA2F13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616-1BD1-43DF-8B42-EA615056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4F3-DDC8-4B2A-9CA6-0BE9BBB7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BFA-0CA3-4CA4-8C1D-656A360F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EAE-38EA-4982-93FA-58FAC5E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DF5-38FF-49ED-AE92-A936DCD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D5F66-25F9-4E51-9689-3EEF9C7E2F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