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29778"/>
        <c:axId val="80207129"/>
      </c:barChart>
      <c:catAx>
        <c:axId val="55829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7129"/>
        <c:crosses val="autoZero"/>
        <c:auto val="1"/>
        <c:lblAlgn val="ctr"/>
        <c:lblOffset val="100"/>
        <c:noMultiLvlLbl val="0"/>
      </c:catAx>
      <c:valAx>
        <c:axId val="80207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9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875-DAC0-481C-A743-7E53763F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FE7-E3CF-4C65-B538-B751409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839-5DAA-4AFD-A779-3EB6D03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137-9B69-408B-972A-B2CF94A1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A17-E02D-4DC2-96AC-4B8DDCE3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F42-946E-46F5-BE3B-6E4EDCF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380-953E-46AB-BC34-A706B8A0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18B-F8C8-4874-86DA-9617E65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92E-A52E-446E-975E-4A208E9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01C-BAB2-4E0F-92C1-43FD96E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066-FC26-418C-AF46-016BDB5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464-D991-4C60-A71C-2346E1B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82D7-82C6-4056-A726-43050496E3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