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7101"/>
        <c:axId val="80189115"/>
      </c:barChart>
      <c:catAx>
        <c:axId val="74407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89115"/>
        <c:crosses val="autoZero"/>
        <c:auto val="1"/>
        <c:lblAlgn val="ctr"/>
        <c:lblOffset val="100"/>
        <c:noMultiLvlLbl val="0"/>
      </c:catAx>
      <c:valAx>
        <c:axId val="80189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7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524-35DF-4191-9736-1DD151D6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F23-2D40-41B3-9694-D4FF22A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606-3DE6-4FEF-8472-C5078757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FBA-0594-4FF1-92B4-CD5EEBDF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63B-BEA2-4AA2-8AC0-5F27B4E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349-453C-43FB-B298-464B99D9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AA4-23CD-4584-9E8C-0A6F94A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6BC-141F-4C24-B76D-74831CB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148-7FF1-4F5F-BF2A-EDE705B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B25-B2C1-45AE-B905-E720EE2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8B7-2AE8-4EDD-B9F3-9E22D17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41E-29E2-4D65-84E0-91B1562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88ECB-6767-424F-89EC-C278BB695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