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691145"/>
        <c:axId val="63927097"/>
      </c:barChart>
      <c:catAx>
        <c:axId val="43691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27097"/>
        <c:crosses val="autoZero"/>
        <c:auto val="1"/>
        <c:lblAlgn val="ctr"/>
        <c:lblOffset val="100"/>
        <c:noMultiLvlLbl val="0"/>
      </c:catAx>
      <c:valAx>
        <c:axId val="639270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91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3D53-C970-460E-A6DE-9EFE4950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A75-A071-4E3D-860D-034DB679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7289-3F9C-4C55-904E-38247B5C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6BE-B64E-494F-9C2B-787ED9D0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F6E1-525D-49E2-AFA9-70E985C8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09C-F645-4760-B19E-D7567FD9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9A0B-E037-4AD9-845A-0145BF90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425E-5AF7-4756-B381-1F24B727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200-9B73-4785-AD2E-0ED8FB68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69EB-F255-4DC4-B599-0FD24193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C9D-9926-4927-A7E6-317DBA63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7964-AB2C-4CC3-B742-81CCCFDE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ABE89-5C16-47C8-B410-B87633BB7E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