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55173"/>
        <c:axId val="51794707"/>
      </c:barChart>
      <c:catAx>
        <c:axId val="46255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94707"/>
        <c:crosses val="autoZero"/>
        <c:auto val="1"/>
        <c:lblAlgn val="ctr"/>
        <c:lblOffset val="100"/>
        <c:noMultiLvlLbl val="0"/>
      </c:catAx>
      <c:valAx>
        <c:axId val="51794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55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DC3-847F-496A-90D8-CB1C72D3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CD8-0905-4C3D-A235-2304B91A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03E-974B-4D37-87BE-0A77367C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17A-8932-4771-ACC3-FE22BA52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2F1-5A33-4865-AAC4-FCED918D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ABA-4189-429B-A323-670D1FE0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037-B684-418A-AA88-2737ED5B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0F3-1C8F-4673-AD65-C25B1893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462-7744-490B-BCD8-0D4FF481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1DD-F0DD-4CD8-9C62-6524459E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D65-8732-4D8C-B8BB-7679A8F6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839-57AF-48EB-B5F2-985399B2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1D4E0-B0BC-41E8-918B-76C8915C83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