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02985"/>
        <c:axId val="95600497"/>
      </c:barChart>
      <c:catAx>
        <c:axId val="24402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00497"/>
        <c:crosses val="autoZero"/>
        <c:auto val="1"/>
        <c:lblAlgn val="ctr"/>
        <c:lblOffset val="100"/>
        <c:noMultiLvlLbl val="0"/>
      </c:catAx>
      <c:valAx>
        <c:axId val="95600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02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A1C-9C20-4EB1-B36B-297BD01F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B1B-E50D-429F-8FF4-897ACB39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A2B-0B77-41E1-9E35-7D13A5FD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A55-401A-48DA-9B0A-FF0EBDAC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698-4008-40E2-B56E-9DD2894B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380-00A6-406C-A6D3-F31459DC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2D2-5BF7-44D8-98DE-382B10E3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CDA-227B-4DE9-87EC-E950CA4B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574-ED15-40F1-8E45-54BEF612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E9D-490E-40ED-BD7A-49233D11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B17-0F9C-4B81-A194-2460C19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05E-FE58-4399-83E1-83E2F60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6B6BD-4D22-41D3-83F9-8BD5E92C9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