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85921"/>
        <c:axId val="40252574"/>
      </c:barChart>
      <c:catAx>
        <c:axId val="574859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52574"/>
        <c:crosses val="autoZero"/>
        <c:auto val="1"/>
        <c:lblAlgn val="ctr"/>
        <c:lblOffset val="100"/>
        <c:noMultiLvlLbl val="0"/>
      </c:catAx>
      <c:valAx>
        <c:axId val="402525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859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9545-6244-4E15-A3CE-609F8493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5D9-3D36-4A2E-A26E-91176244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CB15-AC60-4885-8D38-87683DA7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49E-3F6F-4948-A8C8-58418420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9F6-9E70-406D-A0FA-935C607D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AC2B-3F1F-4549-8F2F-CD36F139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F3A-4BF0-4414-A61A-F869846F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3C0D-F791-41E3-A9F2-368325EE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779-22F3-41D3-858A-AEDC7B70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748-E393-48AE-83DF-598D3796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7B9-7B62-4459-834E-03CF6DAD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1B02-C91C-4FE6-B29F-AA5DA57A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67A0B-5CB5-43A0-95E2-C2A5BCDD11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