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969209"/>
        <c:axId val="57374864"/>
      </c:barChart>
      <c:catAx>
        <c:axId val="139692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74864"/>
        <c:crosses val="autoZero"/>
        <c:auto val="1"/>
        <c:lblAlgn val="ctr"/>
        <c:lblOffset val="100"/>
        <c:noMultiLvlLbl val="0"/>
      </c:catAx>
      <c:valAx>
        <c:axId val="573748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692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F433-79C4-4318-AA7D-03EA3FDE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B5B3-C800-49DE-92F8-6E7FCD62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173A-0730-4172-9847-A97F51BC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3F02-2E78-4AA1-AF00-86010884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3EC-AD09-49BD-BD8E-6AFECE30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EB61-9B18-400C-B272-E306D1BA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2245-E831-43C7-9F29-183C29A1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BA06-92CF-4C69-A0A3-181755E7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DD6-8C91-4477-823A-FD42E507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FADC-97D9-4468-8A0C-0DDA5B17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8936-1892-4C4E-A7CE-E2B55519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E68D-2F72-46CB-9849-C20C8BF3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DCBE5-35FC-413C-A49D-08CD9395FB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