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1527"/>
        <c:axId val="55292045"/>
      </c:barChart>
      <c:catAx>
        <c:axId val="7681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92045"/>
        <c:crosses val="autoZero"/>
        <c:auto val="1"/>
        <c:lblAlgn val="ctr"/>
        <c:lblOffset val="100"/>
        <c:noMultiLvlLbl val="0"/>
      </c:catAx>
      <c:valAx>
        <c:axId val="55292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1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A53-9C8B-437C-8DE8-DF92CAD2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226-7701-4C4F-9BCC-D513E24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D38-5B98-46F7-B7E8-50E42479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030-3502-4F0E-9CDA-04DD7EC7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362-0EB2-44FF-A09B-1815B9E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293-7924-4FBE-BB04-F507CF6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184-C07D-4447-BD45-B45E6DCB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983-EC02-4C73-BD73-B8AE687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764-3CE9-4EEF-9527-0396CE9A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2ED-F07F-4F27-88F9-E8CA9F8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CA8-084D-437C-9C0E-A6A95EF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54A-58B9-47F8-AD85-857BEBA9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C8C3-A069-4D45-BB96-0CADD87431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