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45097"/>
        <c:axId val="46206887"/>
      </c:barChart>
      <c:catAx>
        <c:axId val="36945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06887"/>
        <c:crosses val="autoZero"/>
        <c:auto val="1"/>
        <c:lblAlgn val="ctr"/>
        <c:lblOffset val="100"/>
        <c:noMultiLvlLbl val="0"/>
      </c:catAx>
      <c:valAx>
        <c:axId val="46206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45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19D-610F-4253-B0D5-90C3F90D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669-6E34-410D-8161-5DC31B5F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58B-EA43-4F5B-A8B6-456BC43E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DAF-E411-462A-B33E-A54EE5AD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C17-44D4-45E9-B5F0-7B154E8C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321-4312-456D-8627-2B6F67CC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F5D-7FC9-4D4F-A9F9-7DA252C1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84B-E3BF-48C7-91C1-9BB12343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435-6E5B-416D-B6F9-1F073F34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6B7-7D82-4756-BCE2-063D4078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799-9622-44D8-940D-36FD9982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6E8-D3CF-46B6-8925-FE58AC69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1F2C0-BD33-4134-8FEC-9F2E7D3BD9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