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73584"/>
        <c:axId val="34728903"/>
      </c:barChart>
      <c:catAx>
        <c:axId val="53373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28903"/>
        <c:crosses val="autoZero"/>
        <c:auto val="1"/>
        <c:lblAlgn val="ctr"/>
        <c:lblOffset val="100"/>
        <c:noMultiLvlLbl val="0"/>
      </c:catAx>
      <c:valAx>
        <c:axId val="34728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73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BFA-C110-40EA-84A2-D11F5B71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4B9-0209-4A89-ACCD-29FF1DA9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DB2-B388-4BDC-8D08-088A9DEE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A39-F5D4-4132-9F32-15E6E254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7BB-741E-4588-823B-29BA7474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A61-C6E1-4FE0-A9FD-BE295996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7B6-2202-49AF-B689-577E9A95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26E-4515-45F5-BC0E-DC16BE1C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5BE-0614-4AE6-A84E-8B4F75DD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CE7-8C63-42E5-A981-8A9E4FFA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4E2-513C-4393-A818-B6D7F389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B48-685D-46FF-9AC3-3C4518A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E5652-BB21-4EA0-8497-7597F6543C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