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81107"/>
        <c:axId val="45513453"/>
      </c:barChart>
      <c:catAx>
        <c:axId val="29581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13453"/>
        <c:crosses val="autoZero"/>
        <c:auto val="1"/>
        <c:lblAlgn val="ctr"/>
        <c:lblOffset val="100"/>
        <c:noMultiLvlLbl val="0"/>
      </c:catAx>
      <c:valAx>
        <c:axId val="45513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81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4E9-5DC1-49F3-82A1-6839C3F1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780-75A0-47BA-9657-EEE83E17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924-0336-4809-9BCD-21B042D7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80B-0677-41C1-AAEC-123E22FB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C0B-D7F3-42BE-9FD5-12287D75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E14-8E4C-4EDE-AA01-2067E567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8CE-BE48-4A79-9C80-47B80767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6AF-BD3E-412F-A704-3C761248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E21-9B92-4D92-9931-282463EC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CB9-87CC-45C8-BE5B-9F3E4A66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46E-3BD0-4D2D-AE57-5472EE42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C2B-0D8F-47D8-BF3E-14DA179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0B4B9-A595-4108-9A40-CE920E7778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