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0177334"/>
        <c:axId val="34440953"/>
      </c:barChart>
      <c:catAx>
        <c:axId val="2017733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440953"/>
        <c:crosses val="autoZero"/>
        <c:auto val="1"/>
        <c:lblAlgn val="ctr"/>
        <c:lblOffset val="100"/>
        <c:noMultiLvlLbl val="0"/>
      </c:catAx>
      <c:valAx>
        <c:axId val="3444095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17733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288EE-893F-4861-9261-2B6113E65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0539D-8C0F-4974-BA46-E827ABD90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B8315-0016-4518-BD92-E4631C819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E5D5D-63EE-4769-BE92-5291CEBEA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4E4CB-2275-4B25-9038-322100292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0609A-7B0D-4790-AD1B-7F6867F19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79C03-C9F4-4818-ADD4-ACF6CA7FE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23987-BFAA-4CDF-9D0E-54897AF11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FB9CD-06E7-44B3-BE4F-7A3FA4646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BDC01-8F2A-4A72-A0C8-73E64C58F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A8969-6CC4-4B63-84A6-25D83AD60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D7C4D-258D-4EEA-953C-942AB8F45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FC82ED-0BCA-438A-BDE4-520611E9455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