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54998"/>
        <c:axId val="87990017"/>
      </c:barChart>
      <c:catAx>
        <c:axId val="22954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90017"/>
        <c:crosses val="autoZero"/>
        <c:auto val="1"/>
        <c:lblAlgn val="ctr"/>
        <c:lblOffset val="100"/>
        <c:noMultiLvlLbl val="0"/>
      </c:catAx>
      <c:valAx>
        <c:axId val="87990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54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5CB-6EB1-450F-B3C8-3BFA98AA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4AC-4DA0-42EF-AE47-A8F63D71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740-73D3-4B81-BD53-C8BAED8E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FD5-F1E7-4F47-B668-8D2B0003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83E-F0F5-4577-B017-D2154933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858-C458-4106-8475-2677BBC5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AE2-FB3D-4B69-9B24-0E396819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EC8-BAD2-4C74-BD13-9C9A0BC6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822-898F-4557-B46B-6EA5092A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7E2-39E5-42CB-BA8B-A3CC262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2A2-C2DC-4854-8E96-A53AA50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377-C2DB-45A8-94C5-CDB3AF31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C0A6E-B389-4455-A7D4-339256F08D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