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42618"/>
        <c:axId val="55091639"/>
      </c:barChart>
      <c:catAx>
        <c:axId val="52842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91639"/>
        <c:crosses val="autoZero"/>
        <c:auto val="1"/>
        <c:lblAlgn val="ctr"/>
        <c:lblOffset val="100"/>
        <c:noMultiLvlLbl val="0"/>
      </c:catAx>
      <c:valAx>
        <c:axId val="55091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42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379-E1C9-4767-8A5B-F1D4FE8D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026-7F42-4A34-90FB-8FAE0770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D43-7715-444C-8A57-E7C26021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906-CAFA-486B-85A0-B741E260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511-BA3A-4A14-A8B3-3933E1E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546-B966-4C8A-BB56-3B4D3540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873-374E-4AA6-B014-7BB4418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5DF-0CBC-498C-900B-E3C16794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D84-1801-4B78-8D7F-40E835B3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3AE-AF5C-4683-95FF-7399C47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773-99DC-428F-9F9D-53D63A2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C85-B227-4F76-991C-69B6FB5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F8EC5-EB6A-4E9E-BC7E-559BCECD0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