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95369"/>
        <c:axId val="72818433"/>
      </c:barChart>
      <c:catAx>
        <c:axId val="61295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18433"/>
        <c:crosses val="autoZero"/>
        <c:auto val="1"/>
        <c:lblAlgn val="ctr"/>
        <c:lblOffset val="100"/>
        <c:noMultiLvlLbl val="0"/>
      </c:catAx>
      <c:valAx>
        <c:axId val="72818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95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58F6-9CF0-4401-BAC7-0D9B26BA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8F4-B89B-4560-9DDE-1EE8C448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041-70F1-453A-A266-93680B2C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D69-5759-4B3D-925D-611F2B5D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42D-F395-40BF-AFAB-B481F816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1417-1B58-45A9-B9F7-27FE61C0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C121-6CC8-42CA-8B54-04C457D2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0BD-62E1-476E-B53B-5F7875A7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F4F-62CA-4C28-A9E5-FB14C13F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4AC-7BAB-4EF9-918F-340CD4AC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23F-A549-4E2F-84B6-F26901CC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E88-BB48-4C03-B10B-BEDEFB23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AE4F8-1800-4109-942A-7CB9EC0BCB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