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45299"/>
        <c:axId val="33862441"/>
      </c:barChart>
      <c:catAx>
        <c:axId val="42845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62441"/>
        <c:crosses val="autoZero"/>
        <c:auto val="1"/>
        <c:lblAlgn val="ctr"/>
        <c:lblOffset val="100"/>
        <c:noMultiLvlLbl val="0"/>
      </c:catAx>
      <c:valAx>
        <c:axId val="33862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45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D09-DA45-4898-A49F-D35EF749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F0-4CEF-43E9-A18D-0F7E5F76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317-A8E8-4925-BC35-2746F71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456-66C8-4720-87FA-C55C63B2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8C0-BC1C-4966-861A-F1F5B4C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74C-7BD7-4E0F-BCDE-2BC5593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C9A-ED19-436A-9892-EFCC37F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E60-31DB-400B-A005-F22A5D5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9AA-AB0A-4E81-A7FA-9AADAEE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EB2-225A-421C-AB2A-C9CEA13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8E2-5D92-49CF-9D6F-D4B0B7C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6F6-EBC8-4CD7-8510-F5A31AAB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8D95B-440F-4E83-BC62-1114D28C8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