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0502"/>
        <c:axId val="27547859"/>
      </c:barChart>
      <c:catAx>
        <c:axId val="9718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7859"/>
        <c:crosses val="autoZero"/>
        <c:auto val="1"/>
        <c:lblAlgn val="ctr"/>
        <c:lblOffset val="100"/>
        <c:noMultiLvlLbl val="0"/>
      </c:catAx>
      <c:valAx>
        <c:axId val="27547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F4-B88B-4C00-9D85-F048A7B5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452-87D8-450B-9A41-3FEEA82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C34-1F11-472D-85AC-7808342D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565-0A92-4BB2-BB5B-D0679C15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FB8-F2F5-42B2-83DA-19B0F3A6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769-70F8-48BC-A88B-81EB4BEF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608-227D-4E19-8D29-7655409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6A5-33D9-472E-B0E3-E15A193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EF-41BB-45C3-9B5D-D5CB9A2F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643-6740-49CB-A7D6-D08B14A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75F-C533-451D-8041-43E809C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06E-A946-439A-96C5-26757F5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8F925-E9F5-4D69-BF45-AFD7A9BA49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