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26289"/>
        <c:axId val="68610243"/>
      </c:barChart>
      <c:catAx>
        <c:axId val="12126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10243"/>
        <c:crosses val="autoZero"/>
        <c:auto val="1"/>
        <c:lblAlgn val="ctr"/>
        <c:lblOffset val="100"/>
        <c:noMultiLvlLbl val="0"/>
      </c:catAx>
      <c:valAx>
        <c:axId val="68610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26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774-C0E0-4DF5-9189-FFB22B28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B17-0F27-4604-BCC6-F4C190F4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752-321A-4205-8877-6A254F91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264-35F3-4E0A-B80F-6FF43142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45F-F3B8-47B3-A80D-1CAF0FE5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E9C-10B6-4A75-96FC-FEE4D9C7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547-D8A8-4BB0-B5D5-DC39E8FC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3CA-A573-4D1B-80A5-16DC6B34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B95-BA18-4259-A82B-AEB5D1F5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A11-C705-4DB1-A7AE-6A4BE72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468-C149-4912-B700-FB49DB9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092-ABF7-493A-8F13-47A6DAF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9CAAE-0F74-4163-92E1-699A627D8B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