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92543"/>
        <c:axId val="521236"/>
      </c:barChart>
      <c:catAx>
        <c:axId val="12692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236"/>
        <c:crosses val="autoZero"/>
        <c:auto val="1"/>
        <c:lblAlgn val="ctr"/>
        <c:lblOffset val="100"/>
        <c:noMultiLvlLbl val="0"/>
      </c:catAx>
      <c:valAx>
        <c:axId val="521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92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E21-3634-4CB9-B560-5F708D4E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9EC-A99E-412F-BD73-04C0942A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633-2E83-47A9-90DD-A4045BC9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FA0-2C69-43C1-859C-F9A05214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596-BF89-492B-A5DB-2BB494E6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0A4-E690-4318-8116-9029C30A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D10-B69A-4D73-B3A9-1B60BD1E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22D-8767-4BFB-A68A-385F8C08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547-E0C3-4FA1-9829-1958F3E2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9F4-DA89-468D-946E-3C33096F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8C0-484E-4D36-87CF-C3434C5A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E5B-ADC7-4D30-91DA-4FDE4179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86DB1-3C52-4186-9DBC-01838C616D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