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81323"/>
        <c:axId val="67538468"/>
      </c:barChart>
      <c:catAx>
        <c:axId val="53181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38468"/>
        <c:crosses val="autoZero"/>
        <c:auto val="1"/>
        <c:lblAlgn val="ctr"/>
        <c:lblOffset val="100"/>
        <c:noMultiLvlLbl val="0"/>
      </c:catAx>
      <c:valAx>
        <c:axId val="67538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81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DC1-8374-4AB7-8E33-16D6FD74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571-F172-45D1-9EA7-2D391E43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965-C1AF-4075-86B9-DAA5E177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DC4-3FF5-4706-A245-9AA03078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8B2-1527-4DEE-A494-FE2236DD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BAC-0318-4FE2-842F-645F6FB9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D58-73B4-4818-8840-706D82E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6EA-CBC6-4A2B-8CEA-65647EDF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79E-41F6-44BC-A4FE-DBBA0772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593-07CD-4E61-814C-AE292010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EC2-E62D-465A-AA27-44A2ED72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CA0-67F8-45F2-8819-0F5B01F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6063A-C221-4C99-8B5A-ED483F777D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